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224-145A-498E-9075-086B2AC5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9C2-ACD8-4605-9886-74E604D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E12-EC90-44A0-B6AD-9AAABB3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45F-B636-4D67-8D05-8B9B2577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452-D65C-4D0D-9AF6-E4686A1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CF2-573F-495C-BDF7-13DC225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31C-C229-4F79-905F-6D6F037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44C-B170-47E5-9879-0164F7EE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C45-45AE-44A2-81A0-F81A3626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D87-2605-4EE1-86F7-5BAC6E9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145-2BE4-4F78-88B1-7FFEAE2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F3A-D288-42C9-BDB8-86F302C6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8344-1BED-4FCA-953C-614CAF65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aff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52280" y="1295280"/>
            <a:ext cx="7162560" cy="2819520"/>
          </a:xfrm>
          <a:prstGeom prst="ellipse">
            <a:avLst/>
          </a:prstGeom>
          <a:solidFill>
            <a:srgbClr val="ffffcc">
              <a:alpha val="57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56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cked l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63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3200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92400"/>
            <a:ext cx="12189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25588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1873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2787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7208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780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352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0924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54960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40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1016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558880"/>
            <a:ext cx="1524240" cy="2210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4159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Eclipse 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558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0160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IDE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724280"/>
            <a:ext cx="20574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with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86400" y="6172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5715000"/>
            <a:ext cx="1371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04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267080"/>
            <a:ext cx="3200400" cy="221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32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57150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0292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4343400"/>
            <a:ext cx="11430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53341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791320"/>
            <a:ext cx="8380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8006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8880" y="2666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5029200"/>
            <a:ext cx="12952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-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50496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12193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pt 14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y: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6477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worked for 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286000"/>
            <a:ext cx="3429000" cy="38098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724280"/>
            <a:ext cx="3429000" cy="21337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6172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22:52Z</dcterms:created>
  <dc:creator>Chris Laffra</dc:creator>
  <dc:description/>
  <dc:language>en-US</dc:language>
  <cp:lastModifiedBy>Chris Laffra</cp:lastModifiedBy>
  <dcterms:modified xsi:type="dcterms:W3CDTF">2004-10-05T14:16:18Z</dcterms:modified>
  <cp:revision>1</cp:revision>
  <dc:subject/>
  <dc:title>Universal IDE Generator</dc:title>
</cp:coreProperties>
</file>